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6B06-E5AA-4340-9A91-1ACA9FA8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old days, we had good old print to rely on.  Books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iscover an author has a Ph.D.  Do you need to investigate any further? What if her degree is in physics and the site she wrote is on Shakespe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rything on Geocities bad?  Would your teacher question you citing a source that resided on a free serv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tical errors are important clues that a site ought to be avoided as a source.  Be on the lookout for information that just doesn’t “feel righ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oax sites work well for making the point about accurac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a few links with strong points of view to demonstrate bias.  Around election time these sites are even more bounti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is not a contest. It doesn’t matter how many sources you collect.  What does matter is their quality and their relev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AA3-D30B-4C58-A10D-E0B0FD46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B18-17B9-474E-92EE-D9C5260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BEE-A143-4C44-9C5E-8F520AD4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3D7-10C4-4F3B-9B09-30036B17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D69F-97F1-4B4C-B978-DE27EBE3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3BEE-D45C-498A-96D2-13BECD17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C2D5-2141-4A88-AE44-2A11F3A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9CD0-FAFE-496C-87CD-C0A9A79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4095-8714-464E-97AF-E0EF1E1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A46B-ECFB-4A3A-AC98-F2AE8C8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515-AA5C-42D2-86DF-E3C529D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8F2-D047-4AC9-8B96-391B9AD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1A59-2720-42F5-893D-4E70824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20F-D5F6-48E2-8B16-90FB3B5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8E2A-E477-4BDB-9881-95777C4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16A3-AD8E-4683-B0D8-942251E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712E-A9B2-4F0B-A5D2-3016B4F3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AC6-42DA-4CDD-A901-D3E3A11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962-0133-49FE-B7CE-7DBEBC6F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73E-8827-4553-9ED3-531ABFA0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231-1544-4669-BCA3-D695E3C9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D98-4FA1-48C1-874E-18AD5D8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414-96F7-475B-916F-35448D4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638-F83C-414B-80C1-57F5C0C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F19-171A-4C1C-ADE8-C3EA1E77A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389-97D7-47A7-878C-1961B3ABE5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-b.net/dti/" TargetMode="External"/><Relationship Id="rId2" Type="http://schemas.openxmlformats.org/officeDocument/2006/relationships/hyperlink" Target="http://home.inreach.com/kumbach/velcro.html" TargetMode="External"/><Relationship Id="rId3" Type="http://schemas.openxmlformats.org/officeDocument/2006/relationships/hyperlink" Target="http://allaboutexplorers.com/index.html" TargetMode="External"/><Relationship Id="rId4" Type="http://schemas.openxmlformats.org/officeDocument/2006/relationships/hyperlink" Target="http://zapatopi.net/bsa.html" TargetMode="External"/><Relationship Id="rId5" Type="http://schemas.openxmlformats.org/officeDocument/2006/relationships/hyperlink" Target="http://malepregnancy.com/" TargetMode="External"/><Relationship Id="rId6" Type="http://schemas.openxmlformats.org/officeDocument/2006/relationships/hyperlink" Target="http://malepregnancy.com/" TargetMode="External"/><Relationship Id="rId7" Type="http://schemas.openxmlformats.org/officeDocument/2006/relationships/hyperlink" Target="http://malepregnancy.com/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ultcolib.org/homework/sochc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udentportal.vbschools.com/sites/HFC/LMC/default.aspx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LMC RESEARCH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Overview of Resources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r. Frenck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glish Cla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t’s okay to be confus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6908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billions of websites out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m are not worthy of your time and don’t belong in your Works Cite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it’s very hard to tell treasure from tra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Web developers don’t want you to understand the dif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5867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Okay, so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do we know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a site is 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Yeah, and how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we be 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d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thi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it’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enough to c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55280" y="255240"/>
            <a:ext cx="65674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AN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5640" y="447480"/>
            <a:ext cx="71438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autho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his or her credentials? Education? Experience? Affili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author’s experience really qualify him or her as an exp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personal page or is it part of the site belonging to a major institution? (Clues pointing to a personal page: ~ tilde, %, users, memb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hosted by a free server like AOL, Tripod, Geociti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85520" y="2224080"/>
            <a:ext cx="6908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About us, Who Am I, FAQs, For More, Company Information, Profiles, Our Staff, H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If you have no information other than an e-mail link, write a polite e-mail asking for more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ncate the U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elete characters in the address line up to the next slash mark to see if a main page offers more information about who is responsible for publishing the page you are interested 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acts, statistics, or other information be verified through other sourc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your knowledge, does the information seem accurate? Is the information inconsistent with information you learned from other sour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formation second hand? Has it been alte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re appear to be errors on the page (spelling, grammar, fact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55280" y="642960"/>
            <a:ext cx="65674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actice checking for accuracy with a few of these sites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197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es-R-U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d-b.net/dti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’s Velcro Crop Under Challe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ome.inreach.com/kumbach/velcro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blic of Cascadia: Bureau of Sasquatch Aff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allaboutexplorers.com/index.ht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zapatopi.net/bsa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 Pregn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malepregnancy.com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312408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nomah County Library’s Social Issues page offers links to sites on all sides of major issu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multcolib.org/homework/soch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7680" y="380880"/>
            <a:ext cx="478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onsidering B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information directly support my hypothesis/thesis or help to answer my ques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liminate or ignore it because it simply doesn’t help 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tiny – Home Page/link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ble click the icon on the desktop of all school compu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 Page links to data bases and student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d by resources including evaluation tool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revis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meaningful in terms of your information nee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Wide Latin"/>
              </a:rPr>
              <a:t>S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OURCES BEHIND THE TEXT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id the author bother to document his or her sources? use reliable, credible sour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ere those references popular, scholarly, repu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e those sources real? Have you or your librarian heard of or been able to verify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Is the material reproduced (accurately) from another publ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hat kind of links did the author choo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e the hyperlinks reliable, valu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o the links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 / PURPOS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source address my hypothesis/thesis/question in a comprehensive or peripheral wa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scholarly or popular treatm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terial I can read and understan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too simple? Is it too challeng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intended audi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page created? To inform or explai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ersuade? To se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end, or suffix of a domain name to help you judge the validity of the information and the potential bias of a website. Look for sites from educational or government institu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domains that do not reflect their actual purp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58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com=commercial sites (vary in their credibi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gov=U.S. government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org=organization, often non-profit. Some have strong bias and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edu=school or university site (is it K-12? By a student? By a scholar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store=retail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int=international instit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81480" y="1904760"/>
            <a:ext cx="274320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ac=educational institution (like .e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mil=U.S. military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net=networked service provider, Internet administrative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museum=muse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name=individual Internet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biz=a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.pro=professional’s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~=personal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2200" y="863640"/>
            <a:ext cx="7290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There are bigger questions in life!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You will be using information to make important decisions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r should I bu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ctor should I choo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my child have this surge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this med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be able to ensure the information you choose is reliable, credible, current, balanced, relevant, and accu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55280" y="642960"/>
            <a:ext cx="65674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85520" y="2431800"/>
            <a:ext cx="6908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arefully.  Don’t settl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0720" y="23623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Evaluation is important!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Learn to be fussy!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tiny - Cat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basic searching by entering your term and clicking on eith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eyword, Title, Author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Su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advanced searching by click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wer Sear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fore entering search te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click on the short description of an item to get a longer descri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e call number of books so that you can find them in our libr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Bases of Most Inter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Quest Platin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RS – Resear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le – Student Resources Sil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from home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studentportal.vbschools.com/sites/HFC/LMC/default.asp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ced Searching - 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s your search to only items that cover  both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your topic is French art, try searching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ance AND 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results of items that focus on the art in France, not every item that contains information about F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ced Search - 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ens your search to all items that cover either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your topic is capital punishment, try searching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punishment OR death penal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results of items that focus on either capital punishment or death penalty (whichever terms was used in the i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ced Search – N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s your search by excluding items that you don’t w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your topic is the people of India, try searching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ians NOT Native Ameri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results of items that focus on the people of India, not Native Ameri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Websit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329400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aluation is important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arn to be fuss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mm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his one look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can I tell for s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2:13:19Z</dcterms:created>
  <dc:creator>VBCPS</dc:creator>
  <dc:description/>
  <dc:language>en-US</dc:language>
  <cp:lastModifiedBy>Virginia Beach City Public Schools</cp:lastModifiedBy>
  <dcterms:modified xsi:type="dcterms:W3CDTF">2009-04-22T14:30:20Z</dcterms:modified>
  <cp:revision>13</cp:revision>
  <dc:subject/>
  <dc:title>LMC RESEARCH</dc:title>
</cp:coreProperties>
</file>